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D45A7-8015-45F5-B7DA-DFEF31C72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ED31C-E225-441A-97F0-7024B21C6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CC26B-4FF8-4BDC-949F-0C6A5AC69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8960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796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8960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796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162DC-BB32-4F40-9740-502815FC1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177A4-2400-457A-8B71-3C691D0E5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EC2B1-9F51-402F-AA09-F9BC08A04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912C0-8150-470E-BBA3-3F11FC07A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0CC45-6C0A-4EF5-935E-D7CE2504A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70106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E5F18-E4D7-49CB-941B-3F5AC4690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1C175-81FE-4C67-8FE1-B45AE3C14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FD033-D4F4-4A78-921E-8467B8B4F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9062B-93D1-448A-9AFD-090CBDACB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Click to edit the title text forma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lick to edit the outline text forma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con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Thir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our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4" marL="2057400" indent="-228600">
              <a:spcBef>
                <a:spcPts val="799"/>
              </a:spcBef>
              <a:buClr>
                <a:srgbClr val="3a0e66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if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ix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ven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7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E7D69-1CBE-408D-969A-6D8BDAE06D1B}" type="datetime">
              <a:rPr b="0" lang="zh-TW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115/0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0477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334F7-DFE7-4178-816C-7097F2ACF5A9}" type="slidenum">
              <a:rPr b="0" lang="en-US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71520" y="6362640"/>
            <a:ext cx="506556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Confidential (2006/01/16) </a:t>
            </a:r>
            <a:r>
              <a:rPr b="0" lang="en-US" sz="1000" spc="-1" strike="noStrike">
                <a:solidFill>
                  <a:srgbClr val="3a0e66"/>
                </a:solidFill>
                <a:latin typeface="Symbol"/>
                <a:ea typeface="Symbol"/>
              </a:rPr>
              <a:t></a:t>
            </a: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2005, BenQ Corporatio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2361960"/>
            <a:ext cx="701064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Minion"/>
              </a:rPr>
              <a:t>System architecture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Minion"/>
              </a:rPr>
              <a:t>team overview</a:t>
            </a:r>
            <a:endParaRPr b="1" lang="en-US" sz="4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4" name=""/>
          <p:cNvSpPr/>
          <p:nvPr/>
        </p:nvSpPr>
        <p:spPr>
          <a:xfrm>
            <a:off x="409680" y="4981680"/>
            <a:ext cx="4572000" cy="138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nion"/>
                <a:ea typeface="文鼎中黑"/>
              </a:rPr>
              <a:t>Pascal Lefèv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BMG CTM IPM TPS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16.01.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General topics inside system architecture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nion"/>
              </a:rPr>
              <a:t>Malpha coordination &amp; support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Ralf Oberheim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nion"/>
              </a:rPr>
              <a:t>Palpha coordination &amp; support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Hans-Georg Keller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nion"/>
              </a:rPr>
              <a:t>Apoxi/Infineon key account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SW: Dietrich Olfs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HW: Ralf Oberheim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nion"/>
              </a:rPr>
              <a:t>Brew/Qualcomm key account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SW: Martin Kolde (starting 15.03.2006)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HW: Support by Uwe Hebding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nion"/>
              </a:rPr>
              <a:t>TTPCom key account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Gerald Stöckl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nion"/>
              </a:rPr>
              <a:t>OpenPlug key account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Ralf Kaisler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Technology cluster mapping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468360" y="825480"/>
          <a:ext cx="8207280" cy="513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825480"/>
                    <a:ext cx="8207280" cy="513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6" name=""/>
          <p:cNvGraphicFramePr/>
          <p:nvPr/>
        </p:nvGraphicFramePr>
        <p:xfrm>
          <a:off x="6804000" y="6021360"/>
          <a:ext cx="914400" cy="7142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04000" y="6021360"/>
                    <a:ext cx="914400" cy="71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236196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a0e66"/>
                </a:solidFill>
                <a:latin typeface="Minion"/>
              </a:rPr>
              <a:t>Backup</a:t>
            </a:r>
            <a:endParaRPr b="1" lang="en-US" sz="44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Major challenges for System architecture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Merger from HW and SW system architecture to one operational organization to focus an system issues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Build bridge between technology clusters and platform architectures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eature breakdown to architectural components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easibility support for M</a:t>
            </a:r>
            <a:r>
              <a:rPr b="0" lang="en-US" sz="3200" spc="-1" strike="noStrike">
                <a:solidFill>
                  <a:srgbClr val="3a0e66"/>
                </a:solidFill>
                <a:latin typeface="Arial Unicode MS"/>
                <a:ea typeface="Arial Unicode MS"/>
              </a:rPr>
              <a:t>α</a:t>
            </a:r>
            <a:r>
              <a:rPr b="0" lang="en-US" sz="3200" spc="-1" strike="noStrike">
                <a:solidFill>
                  <a:srgbClr val="3a0e66"/>
                </a:solidFill>
                <a:latin typeface="Minion"/>
                <a:ea typeface="Arial Unicode MS"/>
              </a:rPr>
              <a:t> process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  <a:ea typeface="Arial Unicode MS"/>
              </a:rPr>
              <a:t>Platform screening and evaluation for P</a:t>
            </a:r>
            <a:r>
              <a:rPr b="0" lang="el-GR" sz="3200" spc="-1" strike="noStrike">
                <a:solidFill>
                  <a:srgbClr val="3a0e66"/>
                </a:solidFill>
                <a:latin typeface="Arial Unicode MS"/>
                <a:ea typeface="Arial Unicode MS"/>
              </a:rPr>
              <a:t>α</a:t>
            </a:r>
            <a:r>
              <a:rPr b="0" lang="en-US" sz="3200" spc="-1" strike="noStrike">
                <a:solidFill>
                  <a:srgbClr val="3a0e66"/>
                </a:solidFill>
                <a:latin typeface="Minion"/>
                <a:ea typeface="Arial Unicode MS"/>
              </a:rPr>
              <a:t> process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Topic list for System architecture (overview)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</a:rPr>
              <a:t>Base band chipset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</a:rPr>
              <a:t>Platform mapping and BSF feasibility check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</a:rPr>
              <a:t>Multimedia/Imaging/HW Accelerators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</a:rPr>
              <a:t>Security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</a:rPr>
              <a:t>Basic platform framework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</a:rPr>
              <a:t>Messaging 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</a:rPr>
              <a:t>Browsing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</a:rPr>
              <a:t>Connectivity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</a:rPr>
              <a:t>Audio/Speech technology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</a:rPr>
              <a:t>Application environment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</a:rPr>
              <a:t>Java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</a:rPr>
              <a:t>Customization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</a:rPr>
              <a:t>Factory/Service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</a:rPr>
              <a:t>Protocol stack termination/Telephony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95280" y="3716280"/>
            <a:ext cx="1154160" cy="10080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835280" y="5084640"/>
            <a:ext cx="360360" cy="8654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48360" y="3789360"/>
            <a:ext cx="360360" cy="8636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out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4869000"/>
            <a:ext cx="4105440" cy="115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93840" y="3716280"/>
            <a:ext cx="1153800" cy="100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619280" y="3716280"/>
            <a:ext cx="7128000" cy="100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93840" y="4797360"/>
            <a:ext cx="835344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System architecture area of work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7" name=""/>
          <p:cNvSpPr/>
          <p:nvPr/>
        </p:nvSpPr>
        <p:spPr>
          <a:xfrm>
            <a:off x="468360" y="981000"/>
            <a:ext cx="1366920" cy="1152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ial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Voice/Video cal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CSD/GPRS setting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USSD editor/view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(U)SIM Appl. Toolkit U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Network settings U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Phone number edit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101080" y="5877000"/>
            <a:ext cx="576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Hardwa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8360" y="2997360"/>
            <a:ext cx="718920" cy="57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ermi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2349360"/>
            <a:ext cx="718920" cy="57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el. Ser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12360" y="4005360"/>
            <a:ext cx="681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SM/UM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S St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500720" y="3789360"/>
            <a:ext cx="576000" cy="86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ultimed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play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mer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771640" y="3789360"/>
            <a:ext cx="863640" cy="86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nnectivi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T, IrDa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LAN, US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692360" y="3789360"/>
            <a:ext cx="431640" cy="86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tora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Syst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580000" y="3789360"/>
            <a:ext cx="501840" cy="863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frastruct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imer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terrup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156360" y="3789360"/>
            <a:ext cx="792000" cy="86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nsum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river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actory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459280" y="450864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266920" y="2708280"/>
            <a:ext cx="647640" cy="865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nnectivi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g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bex, PC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fi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68360" y="2340000"/>
            <a:ext cx="6480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P Protoco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908000" y="981000"/>
            <a:ext cx="216000" cy="1152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rows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908000" y="2349360"/>
            <a:ext cx="287640" cy="1224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986200" y="2347920"/>
            <a:ext cx="217440" cy="1225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idget Lib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156360" y="981000"/>
            <a:ext cx="216000" cy="1152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xplor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258920" y="2997360"/>
            <a:ext cx="216000" cy="564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R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195640" y="981000"/>
            <a:ext cx="503280" cy="1152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essag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MS, MMS, Email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p Push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76720" y="3068640"/>
            <a:ext cx="50328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evice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g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76720" y="2349360"/>
            <a:ext cx="503280" cy="649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y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ncM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771640" y="981000"/>
            <a:ext cx="505080" cy="1152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B, Organizer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ords, Categ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378560" y="3789360"/>
            <a:ext cx="287640" cy="86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ootco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148360" y="321300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de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140360" y="3213000"/>
            <a:ext cx="93636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oice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140360" y="2347920"/>
            <a:ext cx="1223640" cy="78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ultiMed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wor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435640" y="2349360"/>
            <a:ext cx="576360" cy="79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olic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ana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093080" y="2349360"/>
            <a:ext cx="647640" cy="122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Jav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DC JSR24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DC JSR24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84720" y="2349360"/>
            <a:ext cx="360360" cy="122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ramework incl. SI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516720" y="2349360"/>
            <a:ext cx="503280" cy="122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ustomiz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perator Varian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duct Varian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95280" y="2276640"/>
            <a:ext cx="8353440" cy="1368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284640"/>
            <a:ext cx="503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Lay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48000" y="981000"/>
            <a:ext cx="216000" cy="1152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amer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067280" y="981000"/>
            <a:ext cx="360360" cy="1152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ide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lay/Recor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635280" y="981000"/>
            <a:ext cx="362160" cy="1152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lay/Recor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075280" y="981000"/>
            <a:ext cx="361800" cy="1152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C, VoIP,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788000" y="981000"/>
            <a:ext cx="217440" cy="1152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B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596360" y="981000"/>
            <a:ext cx="215640" cy="11527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Java Ap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500720" y="981000"/>
            <a:ext cx="215640" cy="1152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M Radio/T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308720" y="981000"/>
            <a:ext cx="216000" cy="1152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heme Mana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95280" y="907920"/>
            <a:ext cx="8353440" cy="129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885080" y="1989000"/>
            <a:ext cx="792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018200" y="3789360"/>
            <a:ext cx="287640" cy="86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S Kern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7640" y="2349360"/>
            <a:ext cx="287640" cy="1224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Content Mgr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MC,Virt. Filesy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258920" y="2349360"/>
            <a:ext cx="216000" cy="57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508720" y="981000"/>
            <a:ext cx="576000" cy="1152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ecurity App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Locking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Certificate Mana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657120" y="1268280"/>
            <a:ext cx="342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68360" y="5084640"/>
            <a:ext cx="718920" cy="865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ase Ba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084720" y="4869000"/>
            <a:ext cx="432000" cy="1150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isplay, Camera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Keypad, Batte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203640" y="5084640"/>
            <a:ext cx="358560" cy="86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635280" y="5084640"/>
            <a:ext cx="792360" cy="865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G, 2.5G 3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258920" y="5084640"/>
            <a:ext cx="504720" cy="865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ow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gm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268360" y="5084640"/>
            <a:ext cx="865440" cy="865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W ac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ultimed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586560" y="4869000"/>
            <a:ext cx="360360" cy="1150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ensori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003640" y="4869000"/>
            <a:ext cx="432000" cy="1150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nnectivity H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BT, WLAN, US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687680" y="4869000"/>
            <a:ext cx="1443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asic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ystem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ramewor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508720" y="4869000"/>
            <a:ext cx="504720" cy="1150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roadca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FM-Rad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DVB-H, DAB, DM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451640" y="4869000"/>
            <a:ext cx="576360" cy="1150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ntenn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S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WiMa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813800" y="2351160"/>
            <a:ext cx="287280" cy="1224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u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 Mana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835280" y="5084640"/>
            <a:ext cx="360360" cy="865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740720" y="3789360"/>
            <a:ext cx="287280" cy="86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ccessori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ar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51280" y="2349360"/>
            <a:ext cx="216000" cy="1224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ppl. Framewor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708360" y="3789360"/>
            <a:ext cx="719280" cy="86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ustomized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riv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ouch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tte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572000" y="4869000"/>
            <a:ext cx="360360" cy="1150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tora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195640" y="3789360"/>
            <a:ext cx="506160" cy="863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ervi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p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148360" y="3789360"/>
            <a:ext cx="360360" cy="86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out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20000" y="4869000"/>
            <a:ext cx="360360" cy="1150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733440" y="549360"/>
            <a:ext cx="1204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Klaus Zap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986200" y="2347920"/>
            <a:ext cx="217440" cy="12254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idget Lib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76720" y="2349360"/>
            <a:ext cx="503280" cy="6494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y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ncM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516720" y="2349360"/>
            <a:ext cx="503280" cy="12258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ustomiz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perator Varian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duct Varian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8720" y="981000"/>
            <a:ext cx="216000" cy="11527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heme Mana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813800" y="2351160"/>
            <a:ext cx="287280" cy="12240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u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 Mana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51280" y="2349360"/>
            <a:ext cx="216000" cy="12240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ppl. Framewor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08000" y="2349360"/>
            <a:ext cx="287640" cy="12240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156360" y="981000"/>
            <a:ext cx="216000" cy="11527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xplor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258920" y="2997360"/>
            <a:ext cx="216000" cy="5648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R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547640" y="2349360"/>
            <a:ext cx="287640" cy="12240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Content Mgr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MC,Virt. Filesy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258920" y="2349360"/>
            <a:ext cx="216000" cy="5749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508720" y="981000"/>
            <a:ext cx="576000" cy="11527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ecurity App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Locking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Certificate Mana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735960" y="549360"/>
            <a:ext cx="1204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ietrich Olf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68360" y="981000"/>
            <a:ext cx="1366920" cy="11527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ial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Voice/Video cal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CSD/GPRS setting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USSD editor/view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(U)SIM Appl. Toolkit U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Network settings U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Phone number edit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68360" y="2997360"/>
            <a:ext cx="718920" cy="5745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ermi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68360" y="2349360"/>
            <a:ext cx="718920" cy="5749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el. Ser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95640" y="981000"/>
            <a:ext cx="503280" cy="11527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essag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MS, MMS, Email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p Push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734880" y="549360"/>
            <a:ext cx="1306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erald Stöck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093080" y="2349360"/>
            <a:ext cx="647640" cy="12258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Jav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DC JSR24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DC JSR24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732360" y="549360"/>
            <a:ext cx="1149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ven Pan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148360" y="3214800"/>
            <a:ext cx="863640" cy="3603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de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140360" y="3214800"/>
            <a:ext cx="936360" cy="3603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oice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40360" y="2349360"/>
            <a:ext cx="1223640" cy="781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ultiMed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wor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435640" y="2351160"/>
            <a:ext cx="576360" cy="7920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olic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ana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018200" y="3790800"/>
            <a:ext cx="287640" cy="8636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S Kern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733800" y="549360"/>
            <a:ext cx="1116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alf Kais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908000" y="981000"/>
            <a:ext cx="216000" cy="11527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rows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771640" y="981000"/>
            <a:ext cx="505080" cy="11527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B, Organizer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ords, Categ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084720" y="2349360"/>
            <a:ext cx="360360" cy="12258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ramework incl. SI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075280" y="981000"/>
            <a:ext cx="361800" cy="11527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C, VoIP,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788000" y="981000"/>
            <a:ext cx="217440" cy="11527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B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734160" y="549360"/>
            <a:ext cx="1655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rkhard Düm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771640" y="3790800"/>
            <a:ext cx="863640" cy="8636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nnectivi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T, IrDa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LAN, US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266920" y="2709720"/>
            <a:ext cx="647640" cy="8654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nnectivi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g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bex, PC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fi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268360" y="2341440"/>
            <a:ext cx="648000" cy="3049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P Protoco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003640" y="4870440"/>
            <a:ext cx="432000" cy="11509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nnectivity H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BT, WLAN, US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734880" y="549360"/>
            <a:ext cx="1227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Kol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156360" y="3789360"/>
            <a:ext cx="792000" cy="8636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nsum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river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actory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378560" y="3789360"/>
            <a:ext cx="287640" cy="8636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ootco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708360" y="3789360"/>
            <a:ext cx="719280" cy="8636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ustomized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riv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ouch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tte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733800" y="549360"/>
            <a:ext cx="140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Jürgen Riep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68360" y="5084640"/>
            <a:ext cx="718920" cy="8654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ase Ba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735240" y="549360"/>
            <a:ext cx="1779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ns-Georg Ke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635280" y="5084640"/>
            <a:ext cx="792360" cy="8654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G, 2.5G 3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508720" y="4869000"/>
            <a:ext cx="504720" cy="11509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roadca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FM-Rad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DVB-H, DAB, DM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451640" y="4869000"/>
            <a:ext cx="576360" cy="11509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ntenn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S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WiMa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734880" y="549360"/>
            <a:ext cx="1386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erhard Ze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734880" y="549360"/>
            <a:ext cx="1802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land Djermes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692360" y="3789360"/>
            <a:ext cx="431640" cy="8636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tora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Syst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203640" y="5084640"/>
            <a:ext cx="358560" cy="8636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258920" y="5084640"/>
            <a:ext cx="504720" cy="8654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ow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gm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586560" y="4869000"/>
            <a:ext cx="360360" cy="11509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ensori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0" y="4869000"/>
            <a:ext cx="360360" cy="11509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tora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733800" y="549360"/>
            <a:ext cx="1216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lrich Hub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500720" y="3789360"/>
            <a:ext cx="576000" cy="8636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ultimed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play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mer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48000" y="981000"/>
            <a:ext cx="216000" cy="11527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amer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067280" y="981000"/>
            <a:ext cx="360360" cy="11527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ide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lay/Recor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635280" y="981000"/>
            <a:ext cx="362160" cy="11527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lay/Recor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500720" y="981000"/>
            <a:ext cx="215640" cy="11527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M Radio/T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268360" y="5084640"/>
            <a:ext cx="865440" cy="8654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W ac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ultimed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734880" y="549360"/>
            <a:ext cx="1960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ichael Scheithau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276720" y="3068640"/>
            <a:ext cx="503280" cy="5047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evice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g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356000" y="6165720"/>
            <a:ext cx="2737080" cy="152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tentionally not in TPS 4 foc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356000" y="6381720"/>
            <a:ext cx="2737080" cy="152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issing expertise or headcount within TPS 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356000" y="6597720"/>
            <a:ext cx="2737080" cy="15264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opic covered by listed TPS 4 employe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740720" y="3789360"/>
            <a:ext cx="287280" cy="8636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ccessori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ar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7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3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3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72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75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78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8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84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8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1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1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1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19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2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2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4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4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4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5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71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7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6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7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80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83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94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6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9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14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6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9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2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2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2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0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3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6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4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2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43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46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8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4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3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5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8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7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4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7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78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0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81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3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8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6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8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1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4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3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9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System architecture areas of work (text version)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ion"/>
              </a:rPr>
              <a:t>Dietrich Olfs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inion"/>
              </a:rPr>
              <a:t>Explorer 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inion"/>
              </a:rPr>
              <a:t>Security App.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inion"/>
              </a:rPr>
              <a:t>Content Mgr.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inion"/>
              </a:rPr>
              <a:t>Security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inion"/>
              </a:rPr>
              <a:t>DRM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inion"/>
              </a:rPr>
              <a:t>Database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ion"/>
              </a:rPr>
              <a:t>Gerald Stöckl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inion"/>
              </a:rPr>
              <a:t>Dialer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inion"/>
              </a:rPr>
              <a:t>Messaging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inion"/>
              </a:rPr>
              <a:t>Connectivity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inion"/>
              </a:rPr>
              <a:t>Tel. Server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inion"/>
              </a:rPr>
              <a:t>PS Termination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ion"/>
              </a:rPr>
              <a:t>Ralf Kaisler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inion"/>
              </a:rPr>
              <a:t>Multi Media Framework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inion"/>
              </a:rPr>
              <a:t>Audio Policy Manager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inion"/>
              </a:rPr>
              <a:t>Voice Control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inion"/>
              </a:rPr>
              <a:t>Codec Management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inion"/>
              </a:rPr>
              <a:t>OS Kernel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System architecture areas of work (text version)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ion"/>
              </a:rPr>
              <a:t>Burkhard Dümler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inion"/>
              </a:rPr>
              <a:t>Browser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inion"/>
              </a:rPr>
              <a:t>PIM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inion"/>
              </a:rPr>
              <a:t>LBS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inion"/>
              </a:rPr>
              <a:t>IMS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inion"/>
              </a:rPr>
              <a:t>IMS Framework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ion"/>
              </a:rPr>
              <a:t>Martin Kolde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inion"/>
              </a:rPr>
              <a:t>IP Protocols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inion"/>
              </a:rPr>
              <a:t>Connectivity Mgm.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inion"/>
              </a:rPr>
              <a:t>Connectivity (OS Layer)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inion"/>
              </a:rPr>
              <a:t>Connectivity HW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ion"/>
              </a:rPr>
              <a:t>Klaus Zappe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inion"/>
              </a:rPr>
              <a:t>Theme Manager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inion"/>
              </a:rPr>
              <a:t>Startup/Mode Manager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inion"/>
              </a:rPr>
              <a:t>Customization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inion"/>
              </a:rPr>
              <a:t>Appl. Framework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inion"/>
              </a:rPr>
              <a:t>Sync Service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inion"/>
              </a:rPr>
              <a:t>Device Mgm.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inion"/>
              </a:rPr>
              <a:t>Widget Lib.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System architecture areas of work (text version)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nion"/>
              </a:rPr>
              <a:t>Jürgen Riepen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Bootcore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Non Consumer Driver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Customized Drivers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Accessories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nion"/>
              </a:rPr>
              <a:t>Hans-Geog Keller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Base Band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nion"/>
              </a:rPr>
              <a:t>Gerhard Zeller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2G, 2.5G, 3G RF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FM-Radio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Antennas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nion"/>
              </a:rPr>
              <a:t>Roland Djermester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GSM/UMTS PS Stack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Audio Routing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Audio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System architecture areas of work (text version)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nion"/>
              </a:rPr>
              <a:t>Sven Panne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Java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nion"/>
              </a:rPr>
              <a:t>Ulrich Huber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Storage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Power Mgm.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Memory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Storage HW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Sensors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nion"/>
              </a:rPr>
              <a:t>Michael Scheithauer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Camera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Audio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Video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DVB-H, DAB, DMB, TV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Multimedia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HW acc. Multimedia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Cross cutting issues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5286240"/>
                <a:tab algn="l" pos="54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Memory footprint </a:t>
            </a: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Sven Panne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13160" indent="-274320">
              <a:lnSpc>
                <a:spcPct val="80000"/>
              </a:lnSpc>
              <a:spcBef>
                <a:spcPts val="451"/>
              </a:spcBef>
              <a:buClr>
                <a:srgbClr val="3a0e66"/>
              </a:buClr>
              <a:buFont typeface="Minion"/>
              <a:buChar char="•"/>
              <a:tabLst>
                <a:tab algn="l" pos="5286240"/>
                <a:tab algn="l" pos="54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Code size RAM, ROM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713160" indent="-274320">
              <a:lnSpc>
                <a:spcPct val="80000"/>
              </a:lnSpc>
              <a:spcBef>
                <a:spcPts val="451"/>
              </a:spcBef>
              <a:buClr>
                <a:srgbClr val="3a0e66"/>
              </a:buClr>
              <a:buFont typeface="Minion"/>
              <a:buChar char="•"/>
              <a:tabLst>
                <a:tab algn="l" pos="5286240"/>
                <a:tab algn="l" pos="54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Heap size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713160" indent="-274320">
              <a:lnSpc>
                <a:spcPct val="80000"/>
              </a:lnSpc>
              <a:spcBef>
                <a:spcPts val="451"/>
              </a:spcBef>
              <a:buClr>
                <a:srgbClr val="3a0e66"/>
              </a:buClr>
              <a:buFont typeface="Minion"/>
              <a:buChar char="•"/>
              <a:tabLst>
                <a:tab algn="l" pos="5286240"/>
                <a:tab algn="l" pos="54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Memory consumption for applications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Wingdings" charset="2"/>
              <a:buChar char=""/>
              <a:tabLst>
                <a:tab algn="l" pos="5286240"/>
                <a:tab algn="l" pos="54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Performance </a:t>
            </a: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Ralf Oberheim</a:t>
            </a:r>
            <a:r>
              <a:rPr b="0" lang="en-US" sz="2000" spc="-1" strike="noStrike" u="sng">
                <a:solidFill>
                  <a:srgbClr val="3a0e66"/>
                </a:solidFill>
                <a:uFillTx/>
                <a:latin typeface="Minion"/>
              </a:rPr>
              <a:t> 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13160" indent="-274320">
              <a:lnSpc>
                <a:spcPct val="80000"/>
              </a:lnSpc>
              <a:spcBef>
                <a:spcPts val="451"/>
              </a:spcBef>
              <a:buClr>
                <a:srgbClr val="3a0e66"/>
              </a:buClr>
              <a:buFont typeface="Minion"/>
              <a:buChar char="•"/>
              <a:tabLst>
                <a:tab algn="l" pos="5286240"/>
                <a:tab algn="l" pos="54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System</a:t>
            </a: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	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713160" indent="-274320">
              <a:lnSpc>
                <a:spcPct val="80000"/>
              </a:lnSpc>
              <a:spcBef>
                <a:spcPts val="451"/>
              </a:spcBef>
              <a:buClr>
                <a:srgbClr val="3a0e66"/>
              </a:buClr>
              <a:buFont typeface="Minion"/>
              <a:buChar char="•"/>
              <a:tabLst>
                <a:tab algn="l" pos="5286240"/>
                <a:tab algn="l" pos="54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Multi media</a:t>
            </a: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Michael Scheithauer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Wingdings" charset="2"/>
              <a:buChar char=""/>
              <a:tabLst>
                <a:tab algn="l" pos="5286240"/>
                <a:tab algn="l" pos="54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Power consumption </a:t>
            </a: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Ulrich Huber (acting)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13160" indent="-274320">
              <a:lnSpc>
                <a:spcPct val="80000"/>
              </a:lnSpc>
              <a:spcBef>
                <a:spcPts val="451"/>
              </a:spcBef>
              <a:buClr>
                <a:srgbClr val="3a0e66"/>
              </a:buClr>
              <a:buFont typeface="Minion"/>
              <a:buChar char="•"/>
              <a:tabLst>
                <a:tab algn="l" pos="5286240"/>
                <a:tab algn="l" pos="54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Overall targets for platform providers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713160" indent="-274320">
              <a:lnSpc>
                <a:spcPct val="80000"/>
              </a:lnSpc>
              <a:spcBef>
                <a:spcPts val="451"/>
              </a:spcBef>
              <a:buClr>
                <a:srgbClr val="3a0e66"/>
              </a:buClr>
              <a:buFont typeface="Minion"/>
              <a:buChar char="•"/>
              <a:tabLst>
                <a:tab algn="l" pos="5286240"/>
                <a:tab algn="l" pos="54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Definition of target corridor 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713160" indent="-274320">
              <a:lnSpc>
                <a:spcPct val="80000"/>
              </a:lnSpc>
              <a:spcBef>
                <a:spcPts val="451"/>
              </a:spcBef>
              <a:buClr>
                <a:srgbClr val="3a0e66"/>
              </a:buClr>
              <a:buFont typeface="Minion"/>
              <a:buChar char="•"/>
              <a:tabLst>
                <a:tab algn="l" pos="5286240"/>
                <a:tab algn="l" pos="54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Guidelines for usage concepts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Wingdings" charset="2"/>
              <a:buChar char=""/>
              <a:tabLst>
                <a:tab algn="l" pos="5286240"/>
                <a:tab algn="l" pos="54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Exception handling </a:t>
            </a: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Jürgen Riepen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Wingdings" charset="2"/>
              <a:buChar char=""/>
              <a:tabLst>
                <a:tab algn="l" pos="5286240"/>
                <a:tab algn="l" pos="54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Accessories </a:t>
            </a: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Roland Djermester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Wingdings" charset="2"/>
              <a:buChar char=""/>
              <a:tabLst>
                <a:tab algn="l" pos="5286240"/>
                <a:tab algn="l" pos="54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Network Protocols</a:t>
            </a: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Martin Kolde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13160" indent="-274320">
              <a:lnSpc>
                <a:spcPct val="80000"/>
              </a:lnSpc>
              <a:spcBef>
                <a:spcPts val="451"/>
              </a:spcBef>
              <a:buClr>
                <a:srgbClr val="3a0e66"/>
              </a:buClr>
              <a:buFont typeface="Minion"/>
              <a:buChar char="•"/>
              <a:tabLst>
                <a:tab algn="l" pos="5286240"/>
                <a:tab algn="l" pos="54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 </a:t>
            </a: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Number of implementations 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Wingdings" charset="2"/>
              <a:buChar char=""/>
              <a:tabLst>
                <a:tab algn="l" pos="5286240"/>
                <a:tab algn="l" pos="54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Look and Feel </a:t>
            </a: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Klaus Zappe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Wingdings" charset="2"/>
              <a:buChar char=""/>
              <a:tabLst>
                <a:tab algn="l" pos="5286240"/>
                <a:tab algn="l" pos="54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Customization </a:t>
            </a: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Klaus Zappe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Wingdings" charset="2"/>
              <a:buChar char=""/>
              <a:tabLst>
                <a:tab algn="l" pos="5286240"/>
                <a:tab algn="l" pos="54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MIPI standardization</a:t>
            </a: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Support by Uwe Hebding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2T11:20:28Z</dcterms:created>
  <dc:creator>eve.huang</dc:creator>
  <dc:description/>
  <dc:language>en-US</dc:language>
  <cp:lastModifiedBy>Pascal Lefevre</cp:lastModifiedBy>
  <dcterms:modified xsi:type="dcterms:W3CDTF">2006-01-27T17:08:59Z</dcterms:modified>
  <cp:revision>142</cp:revision>
  <dc:subject/>
  <dc:title>PowerPoint 簡報</dc:title>
</cp:coreProperties>
</file>